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586F-7497-4D6D-BE6B-E54E7D004C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D3906-A231-4CAD-A8A1-D71799E1D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1084-3EA8-4A20-A935-6F84A0FD7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14287-81AD-48EF-8F39-89A543AF1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A8C53-2AEA-4573-9CD5-44A603CC3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1BBB1-BA80-4700-889B-5522225FD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2A9F-6EFD-42E8-A5EA-BB620E89C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EDF6-A242-491A-8775-32F5E3E33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FD5-1997-4B49-A1F9-9F4ECFF6F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647E2-55D8-4B98-8C42-99F963DAC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4E14-1B37-4F2A-B6EE-F1C660C0F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4F0B4-0321-4681-8B9E-0E6B3F8EE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F3E6B-6F8F-4FCB-B239-85FA2534C0F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3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image" Target="../media/image3.jpeg"/><Relationship Id="rId20" Type="http://schemas.openxmlformats.org/officeDocument/2006/relationships/image" Target="../media/image3.jpeg"/><Relationship Id="rId2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hyperlink" Target="http://www.mersenne.org/" TargetMode="External"/><Relationship Id="rId1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3.jpeg"/><Relationship Id="rId3" Type="http://schemas.openxmlformats.org/officeDocument/2006/relationships/image" Target="../media/image5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image" Target="../media/image3.jpeg"/><Relationship Id="rId18" Type="http://schemas.openxmlformats.org/officeDocument/2006/relationships/image" Target="../media/image3.jpeg"/><Relationship Id="rId19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5.jpeg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image" Target="../media/image3.jpeg"/><Relationship Id="rId6" Type="http://schemas.openxmlformats.org/officeDocument/2006/relationships/image" Target="../media/image3.jpeg"/><Relationship Id="rId7" Type="http://schemas.openxmlformats.org/officeDocument/2006/relationships/image" Target="../media/image3.jpeg"/><Relationship Id="rId8" Type="http://schemas.openxmlformats.org/officeDocument/2006/relationships/image" Target="../media/image3.jpeg"/><Relationship Id="rId9" Type="http://schemas.openxmlformats.org/officeDocument/2006/relationships/image" Target="../media/image3.jpeg"/><Relationship Id="rId10" Type="http://schemas.openxmlformats.org/officeDocument/2006/relationships/image" Target="../media/image3.jpeg"/><Relationship Id="rId11" Type="http://schemas.openxmlformats.org/officeDocument/2006/relationships/image" Target="../media/image3.jpeg"/><Relationship Id="rId12" Type="http://schemas.openxmlformats.org/officeDocument/2006/relationships/image" Target="../media/image3.jpeg"/><Relationship Id="rId13" Type="http://schemas.openxmlformats.org/officeDocument/2006/relationships/image" Target="../media/image3.jpeg"/><Relationship Id="rId14" Type="http://schemas.openxmlformats.org/officeDocument/2006/relationships/image" Target="../media/image3.jpeg"/><Relationship Id="rId15" Type="http://schemas.openxmlformats.org/officeDocument/2006/relationships/image" Target="../media/image3.jpeg"/><Relationship Id="rId16" Type="http://schemas.openxmlformats.org/officeDocument/2006/relationships/image" Target="../media/image3.jpeg"/><Relationship Id="rId1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066680" y="152280"/>
            <a:ext cx="7162920" cy="5907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685800" y="1066680"/>
            <a:ext cx="3809880" cy="398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Largest Prime Discovere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71600" y="736560"/>
            <a:ext cx="243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Monday 7</a:t>
            </a:r>
            <a:r>
              <a:rPr b="1" lang="en-US" sz="1400" spc="-1" strike="noStrike" baseline="30000">
                <a:solidFill>
                  <a:srgbClr val="ffffff"/>
                </a:solidFill>
                <a:latin typeface="Comic Sans MS"/>
              </a:rPr>
              <a:t>th</a:t>
            </a:r>
            <a:r>
              <a:rPr b="1" lang="en-US" sz="1400" spc="-1" strike="noStrike">
                <a:solidFill>
                  <a:srgbClr val="ffffff"/>
                </a:solidFill>
                <a:latin typeface="Comic Sans MS"/>
              </a:rPr>
              <a:t> June 2004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990720"/>
            <a:ext cx="815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553080" y="1219320"/>
            <a:ext cx="2320920" cy="173664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228600" y="1523880"/>
            <a:ext cx="6248520" cy="32043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A scientist has used his computer to find the largest prime number found so far.- written out, it would stretch for 25 km. The number is the Mersenne prime </a:t>
            </a:r>
            <a:r>
              <a:rPr b="0" lang="en-US" sz="1700" spc="-1" strike="noStrike">
                <a:solidFill>
                  <a:srgbClr val="3333cc"/>
                </a:solidFill>
                <a:latin typeface="Comic Sans MS"/>
              </a:rPr>
              <a:t>2</a:t>
            </a:r>
            <a:r>
              <a:rPr b="0" lang="en-US" sz="1700" spc="-1" strike="noStrike" baseline="30000">
                <a:solidFill>
                  <a:srgbClr val="3333cc"/>
                </a:solidFill>
                <a:latin typeface="Comic Sans MS"/>
              </a:rPr>
              <a:t>24 036 583</a:t>
            </a:r>
            <a:r>
              <a:rPr b="0" lang="en-US" sz="1700" spc="-1" strike="noStrike">
                <a:solidFill>
                  <a:srgbClr val="3333cc"/>
                </a:solidFill>
                <a:latin typeface="Comic Sans MS"/>
              </a:rPr>
              <a:t> –1.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The new figure identified by Josh Findley contains </a:t>
            </a:r>
            <a:r>
              <a:rPr b="0" lang="en-US" sz="1700" spc="-1" strike="noStrike">
                <a:solidFill>
                  <a:srgbClr val="3333cc"/>
                </a:solidFill>
                <a:latin typeface="Comic Sans MS"/>
              </a:rPr>
              <a:t>7,235,733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 digits and would take someone the best part of 6 weeks to write out by hand. Mr Findley was taking part in a mass computer project known as </a:t>
            </a:r>
            <a:r>
              <a:rPr b="0" lang="en-US" sz="1700" spc="-1" strike="noStrike">
                <a:solidFill>
                  <a:srgbClr val="3333cc"/>
                </a:solidFill>
                <a:latin typeface="Comic Sans MS"/>
              </a:rPr>
              <a:t>GIMPS (Great Internet Mersenne Prime Search). 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Gimps is closing in on the $100 000 prize for the first person to find a </a:t>
            </a:r>
            <a:r>
              <a:rPr b="0" lang="en-US" sz="1700" spc="-1" strike="noStrike">
                <a:solidFill>
                  <a:srgbClr val="ff0000"/>
                </a:solidFill>
                <a:latin typeface="Comic Sans MS"/>
              </a:rPr>
              <a:t>10-million–digit-prime</a:t>
            </a:r>
            <a:r>
              <a:rPr b="0" lang="en-US" sz="1700" spc="-1" strike="noStrike">
                <a:solidFill>
                  <a:srgbClr val="000000"/>
                </a:solidFill>
                <a:latin typeface="Comic Sans MS"/>
              </a:rPr>
              <a:t>! “An award winning prime could be mere weeks away or as much as a few years away” said GIMPS founder George Woltman.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3048120"/>
            <a:ext cx="2133720" cy="703800"/>
          </a:xfrm>
          <a:prstGeom prst="rect">
            <a:avLst/>
          </a:prstGeom>
          <a:solidFill>
            <a:srgbClr val="00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41</a:t>
            </a:r>
            <a:r>
              <a:rPr b="1" lang="en-US" sz="2000" spc="-1" strike="noStrike" baseline="30000">
                <a:solidFill>
                  <a:srgbClr val="ffffff"/>
                </a:solidFill>
                <a:latin typeface="Comic Sans MS"/>
              </a:rPr>
              <a:t>st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Mersenne Prime Found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629400" y="3886200"/>
            <a:ext cx="2209680" cy="82404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Primes are the building blocks of all whole number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" y="5029200"/>
            <a:ext cx="8610480" cy="15541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Historically searching for Mersenne primes has been used to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test computer hardware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. The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free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GIMPS programme used by Findley has identified hidden hardware problems in many computers. He used a  2.4 GHz Pentium 4 Windows XP computer running for 14 days to prove the number was prime. Prime numbers are mainly of interest to mathematicians that study the branch of mathematics called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Number Theory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but they are becoming important in cryptography and may eventually lead to </a:t>
            </a:r>
            <a:r>
              <a:rPr b="0" lang="en-US" sz="1600" spc="-1" strike="noStrike">
                <a:solidFill>
                  <a:srgbClr val="3333cc"/>
                </a:solidFill>
                <a:latin typeface="Comic Sans MS"/>
              </a:rPr>
              <a:t>uncrackable cod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207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712960" y="2901960"/>
            <a:ext cx="6211800" cy="703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-1 is a Mersenne prime then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 perfect number. Check this for the first f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25920" y="3929040"/>
            <a:ext cx="290196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3 x 2 = 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610080" y="4464000"/>
            <a:ext cx="329400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7 x 4 = 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592440" y="5013360"/>
            <a:ext cx="3627360" cy="39888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31 x 16 = 49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605040" y="5576760"/>
            <a:ext cx="4019760" cy="39888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= 127 x 64 = 812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1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6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03560" y="2755800"/>
            <a:ext cx="5545080" cy="198936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 u="sng">
                <a:solidFill>
                  <a:srgbClr val="ff0000"/>
                </a:solidFill>
                <a:uFillTx/>
                <a:latin typeface="Comic Sans MS"/>
              </a:rPr>
              <a:t>NEWS FLA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 u="sng">
                <a:solidFill>
                  <a:srgbClr val="3333cc"/>
                </a:solidFill>
                <a:uFillTx/>
                <a:latin typeface="Comic Sans MS"/>
              </a:rPr>
              <a:t>4</a:t>
            </a:r>
            <a:r>
              <a:rPr b="0" i="1" lang="en-GB" sz="1800" spc="-1" strike="noStrike" u="sng" baseline="30000">
                <a:solidFill>
                  <a:srgbClr val="3333cc"/>
                </a:solidFill>
                <a:uFillTx/>
                <a:latin typeface="Comic Sans MS"/>
              </a:rPr>
              <a:t>th</a:t>
            </a:r>
            <a:r>
              <a:rPr b="0" i="1" lang="en-GB" sz="1800" spc="-1" strike="noStrike" u="sng">
                <a:solidFill>
                  <a:srgbClr val="3333cc"/>
                </a:solidFill>
                <a:uFillTx/>
                <a:latin typeface="Comic Sans MS"/>
              </a:rPr>
              <a:t> September 200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44</a:t>
            </a:r>
            <a:r>
              <a:rPr b="0" lang="en-GB" sz="2400" spc="-1" strike="noStrike" baseline="30000">
                <a:solidFill>
                  <a:srgbClr val="ff0000"/>
                </a:solidFill>
                <a:latin typeface="Comic Sans MS"/>
              </a:rPr>
              <a:t>th</a:t>
            </a:r>
            <a:r>
              <a:rPr b="0" lang="en-GB" sz="2400" spc="-1" strike="noStrike">
                <a:solidFill>
                  <a:srgbClr val="ff0000"/>
                </a:solidFill>
                <a:latin typeface="Comic Sans MS"/>
              </a:rPr>
              <a:t>  Mersenne Prime Fou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Comic Sans MS"/>
              </a:rPr>
              <a:t>32 582 657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– 1   has 9,808,358 dig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013200" y="5119560"/>
            <a:ext cx="5545080" cy="11912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The $100 000 prize for the world’s first 10 million digit prime is still on but you need to be quic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fill="hold">
                      <p:stCondLst>
                        <p:cond delay="0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withEffect" fill="hold" presetClass="emph" presetID="26" repeatCount="indefinite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animEffect filter="fade" transition="out">
                                      <p:cBhvr additive="repl">
                                        <p:cTn id="212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" dur="250" autoRev="1" fill="hold"/>
                                        <p:tgtEl>
                                          <p:spTgt spid="24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246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916360" y="3135240"/>
            <a:ext cx="5833800" cy="15570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search other information about Mersenne Primes and Perfect Numbers and don’t forget to join GIMP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089080" y="5473800"/>
            <a:ext cx="6573960" cy="703440"/>
          </a:xfrm>
          <a:prstGeom prst="rect">
            <a:avLst/>
          </a:prstGeom>
          <a:solidFill>
            <a:srgbClr val="ffffff"/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eat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nternet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rsenne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rime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ar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783960" y="4797360"/>
            <a:ext cx="3462120" cy="459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6"/>
              </a:rPr>
              <a:t>http://www.mersenne.org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2743200" y="177840"/>
            <a:ext cx="2768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066680" y="825480"/>
            <a:ext cx="68709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Mersenne number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first 12 of these are shown be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2760" y="177804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057400" y="177804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606840" y="1790640"/>
            <a:ext cx="12571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08560" y="1778040"/>
            <a:ext cx="1371600" cy="703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74000" y="1765440"/>
            <a:ext cx="137160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82760" y="2603520"/>
            <a:ext cx="14349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171880" y="2590920"/>
            <a:ext cx="170172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4165560" y="2577960"/>
            <a:ext cx="1701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134040" y="2565360"/>
            <a:ext cx="170172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5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507960" y="3327480"/>
            <a:ext cx="1803600" cy="398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984400" y="3327480"/>
            <a:ext cx="18925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20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575320" y="3289320"/>
            <a:ext cx="18921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40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77840" y="3949560"/>
            <a:ext cx="8775720" cy="3834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Early mathematicians thought that if n was prime then 2</a:t>
            </a:r>
            <a:r>
              <a:rPr b="0" lang="en-GB" sz="19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-1 was also pr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2743200" y="177840"/>
            <a:ext cx="2768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66680" y="825480"/>
            <a:ext cx="687096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Mersenne number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The first 12 of these are shown belo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82760" y="177804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057400" y="177804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606840" y="1790640"/>
            <a:ext cx="125712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08560" y="1778040"/>
            <a:ext cx="1371600" cy="70380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074000" y="1765440"/>
            <a:ext cx="137160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82760" y="2603520"/>
            <a:ext cx="14349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6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6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71880" y="2590920"/>
            <a:ext cx="170172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165560" y="2577960"/>
            <a:ext cx="170172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8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25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34040" y="2565360"/>
            <a:ext cx="170172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5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07960" y="3327480"/>
            <a:ext cx="1803600" cy="3988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0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102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84400" y="3327480"/>
            <a:ext cx="18925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204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5575320" y="3289320"/>
            <a:ext cx="189216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12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409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77840" y="3949560"/>
            <a:ext cx="8775720" cy="38340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Early mathematicians thought that if n was prime then 2</a:t>
            </a:r>
            <a:r>
              <a:rPr b="0" lang="en-GB" sz="19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-1 was also pr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1000" y="4572000"/>
            <a:ext cx="8951760" cy="3834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In 1536 Hudalricus Regius showed that 2</a:t>
            </a:r>
            <a:r>
              <a:rPr b="0" lang="en-GB" sz="1900" spc="-1" strike="noStrike" baseline="30000">
                <a:solidFill>
                  <a:srgbClr val="000000"/>
                </a:solidFill>
                <a:latin typeface="Comic Sans MS"/>
              </a:rPr>
              <a:t>11</a:t>
            </a:r>
            <a:r>
              <a:rPr b="0" lang="en-GB" sz="1900" spc="-1" strike="noStrike">
                <a:solidFill>
                  <a:srgbClr val="000000"/>
                </a:solidFill>
                <a:latin typeface="Comic Sans MS"/>
              </a:rPr>
              <a:t> -1 = 23 x 89 and so was not prime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3035160" y="3200400"/>
            <a:ext cx="1752840" cy="622440"/>
            <a:chOff x="3035160" y="3200400"/>
            <a:chExt cx="1752840" cy="622440"/>
          </a:xfrm>
        </p:grpSpPr>
        <p:sp>
          <p:nvSpPr>
            <p:cNvPr id="82" name=""/>
            <p:cNvSpPr/>
            <p:nvPr/>
          </p:nvSpPr>
          <p:spPr>
            <a:xfrm flipV="1">
              <a:off x="3035160" y="3263400"/>
              <a:ext cx="1511280" cy="5209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124080" y="3200400"/>
              <a:ext cx="1663920" cy="6224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hecker dir="horz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743200" y="177840"/>
            <a:ext cx="2768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prime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3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87" name=""/>
          <p:cNvSpPr/>
          <p:nvPr/>
        </p:nvSpPr>
        <p:spPr>
          <a:xfrm>
            <a:off x="2819520" y="2222640"/>
            <a:ext cx="6083280" cy="315576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French monk called Marin Mersenne stated in one of his books in 1644 that for the prim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n =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2, 3, 5, 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, 13, 17, 19, 31, 67, 127, and 25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at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-1 would be prime and that all other positive integers less than 257 would yield only composite (non-prime) numbers. He stated this even though he could not possibly have checked such huge numbers. He was making a conjectur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9040" y="1625760"/>
            <a:ext cx="1257480" cy="3988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2273400" y="1625760"/>
            <a:ext cx="12571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4013280" y="1638360"/>
            <a:ext cx="1371600" cy="7038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27600" y="1625760"/>
            <a:ext cx="170208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782800" y="5227560"/>
            <a:ext cx="6083280" cy="131364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fter this all such numbers that were prime became known as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s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. In subsequent years various mathematicians showed that his conjecture was not correc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2743200" y="177840"/>
            <a:ext cx="276876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96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759040" y="5559480"/>
            <a:ext cx="6083280" cy="42912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n =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2, 3, 5, 7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9,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127,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2762280" y="2814480"/>
            <a:ext cx="6083280" cy="2154960"/>
            <a:chOff x="2762280" y="2814480"/>
            <a:chExt cx="6083280" cy="2154960"/>
          </a:xfrm>
        </p:grpSpPr>
        <p:sp>
          <p:nvSpPr>
            <p:cNvPr id="109" name=""/>
            <p:cNvSpPr/>
            <p:nvPr/>
          </p:nvSpPr>
          <p:spPr>
            <a:xfrm>
              <a:off x="2762280" y="3311640"/>
              <a:ext cx="6083280" cy="429120"/>
            </a:xfrm>
            <a:prstGeom prst="rect">
              <a:avLst/>
            </a:prstGeom>
            <a:blipFill rotWithShape="0">
              <a:blip r:embed="rId14"/>
              <a:srcRect/>
              <a:tile tx="0" ty="0" sx="100000" sy="100000" algn="ctr"/>
            </a:blipFill>
            <a:ln w="57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n =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 2, 3, 5, 7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13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17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,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19,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31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, 67, </a:t>
              </a:r>
              <a:r>
                <a:rPr b="0" lang="en-US" sz="2200" spc="-1" strike="noStrike">
                  <a:solidFill>
                    <a:srgbClr val="ff0000"/>
                  </a:solidFill>
                  <a:latin typeface="Comic Sans MS"/>
                </a:rPr>
                <a:t>127,</a:t>
              </a:r>
              <a:r>
                <a:rPr b="0" lang="en-US" sz="2200" spc="-1" strike="noStrike">
                  <a:solidFill>
                    <a:srgbClr val="000000"/>
                  </a:solidFill>
                  <a:latin typeface="Comic Sans MS"/>
                </a:rPr>
                <a:t> and 257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784600" y="3960720"/>
              <a:ext cx="5921280" cy="1008720"/>
            </a:xfrm>
            <a:prstGeom prst="rect">
              <a:avLst/>
            </a:pr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Two of the numbers on Mersenne’s list did not generate Mersenne primes and there were others that he had missed off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4208400" y="2814480"/>
              <a:ext cx="2540160" cy="3988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000" spc="-1" strike="noStrike">
                  <a:solidFill>
                    <a:srgbClr val="000000"/>
                  </a:solidFill>
                  <a:latin typeface="Comic Sans MS"/>
                </a:rPr>
                <a:t>Mersenne’s Lis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6343560" y="3295800"/>
            <a:ext cx="592200" cy="444240"/>
            <a:chOff x="6343560" y="3295800"/>
            <a:chExt cx="592200" cy="444240"/>
          </a:xfrm>
        </p:grpSpPr>
        <p:sp>
          <p:nvSpPr>
            <p:cNvPr id="113" name=""/>
            <p:cNvSpPr/>
            <p:nvPr/>
          </p:nvSpPr>
          <p:spPr>
            <a:xfrm flipV="1">
              <a:off x="6396120" y="3352680"/>
              <a:ext cx="539640" cy="3477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6343560" y="3295800"/>
              <a:ext cx="577800" cy="4442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8077320" y="3276720"/>
            <a:ext cx="591480" cy="444240"/>
            <a:chOff x="8077320" y="3276720"/>
            <a:chExt cx="591480" cy="444240"/>
          </a:xfrm>
        </p:grpSpPr>
        <p:sp>
          <p:nvSpPr>
            <p:cNvPr id="116" name=""/>
            <p:cNvSpPr/>
            <p:nvPr/>
          </p:nvSpPr>
          <p:spPr>
            <a:xfrm flipV="1">
              <a:off x="8129520" y="3333600"/>
              <a:ext cx="539280" cy="34776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8077320" y="3276720"/>
              <a:ext cx="577440" cy="444240"/>
            </a:xfrm>
            <a:prstGeom prst="line">
              <a:avLst/>
            </a:prstGeom>
            <a:ln w="38160">
              <a:solidFill>
                <a:srgbClr val="3333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429240" y="5516640"/>
            <a:ext cx="1543320" cy="542880"/>
          </a:xfrm>
          <a:prstGeom prst="ellipse">
            <a:avLst/>
          </a:prstGeom>
          <a:noFill/>
          <a:ln w="381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94080" y="5048280"/>
            <a:ext cx="24764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Completed Lis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54080" y="6203880"/>
            <a:ext cx="88009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It was 1947 before all the numbers on Mersenne’s original list had been check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7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26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14760" y="2757600"/>
            <a:ext cx="6211800" cy="1008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re is a formula linking a Mersenne Prime to its corresponding perfect number by multiplication. Use the table below to help you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2787480" y="3965400"/>
          <a:ext cx="6094440" cy="2594160"/>
        </p:xfrm>
        <a:graphic>
          <a:graphicData uri="http://schemas.openxmlformats.org/drawingml/2006/table">
            <a:tbl>
              <a:tblPr/>
              <a:tblGrid>
                <a:gridCol w="1049400"/>
                <a:gridCol w="1052640"/>
                <a:gridCol w="582480"/>
                <a:gridCol w="808200"/>
                <a:gridCol w="1155600"/>
                <a:gridCol w="1446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ec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44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8" name=""/>
          <p:cNvGraphicFramePr/>
          <p:nvPr/>
        </p:nvGraphicFramePr>
        <p:xfrm>
          <a:off x="2787480" y="3965400"/>
          <a:ext cx="6094440" cy="2594160"/>
        </p:xfrm>
        <a:graphic>
          <a:graphicData uri="http://schemas.openxmlformats.org/drawingml/2006/table">
            <a:tbl>
              <a:tblPr/>
              <a:tblGrid>
                <a:gridCol w="1049400"/>
                <a:gridCol w="1052640"/>
                <a:gridCol w="582480"/>
                <a:gridCol w="808200"/>
                <a:gridCol w="1155600"/>
                <a:gridCol w="1446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ec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59" name=""/>
          <p:cNvGrpSpPr/>
          <p:nvPr/>
        </p:nvGrpSpPr>
        <p:grpSpPr>
          <a:xfrm>
            <a:off x="6053040" y="3992400"/>
            <a:ext cx="2811600" cy="971640"/>
            <a:chOff x="6053040" y="3992400"/>
            <a:chExt cx="2811600" cy="971640"/>
          </a:xfrm>
        </p:grpSpPr>
        <p:sp>
          <p:nvSpPr>
            <p:cNvPr id="160" name=""/>
            <p:cNvSpPr/>
            <p:nvPr/>
          </p:nvSpPr>
          <p:spPr>
            <a:xfrm flipV="1">
              <a:off x="6053040" y="4545000"/>
              <a:ext cx="1378080" cy="419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7385040" y="3992400"/>
              <a:ext cx="147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ff"/>
                  </a:solidFill>
                  <a:latin typeface="Comic Sans MS"/>
                </a:rPr>
                <a:t>Write as a power of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2" name=""/>
          <p:cNvSpPr/>
          <p:nvPr/>
        </p:nvSpPr>
        <p:spPr>
          <a:xfrm>
            <a:off x="2714760" y="2757600"/>
            <a:ext cx="6211800" cy="1008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re is a formula linking a Mersenne Prime to its corresponding perfect number by multiplication. Use the table below to help you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65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2787480" y="3965400"/>
          <a:ext cx="6094440" cy="2594160"/>
        </p:xfrm>
        <a:graphic>
          <a:graphicData uri="http://schemas.openxmlformats.org/drawingml/2006/table">
            <a:tbl>
              <a:tblPr/>
              <a:tblGrid>
                <a:gridCol w="1049400"/>
                <a:gridCol w="1052640"/>
                <a:gridCol w="582480"/>
                <a:gridCol w="808200"/>
                <a:gridCol w="1155600"/>
                <a:gridCol w="1446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ec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80" name=""/>
          <p:cNvGrpSpPr/>
          <p:nvPr/>
        </p:nvGrpSpPr>
        <p:grpSpPr>
          <a:xfrm>
            <a:off x="6053040" y="3992400"/>
            <a:ext cx="2811600" cy="971640"/>
            <a:chOff x="6053040" y="3992400"/>
            <a:chExt cx="2811600" cy="971640"/>
          </a:xfrm>
        </p:grpSpPr>
        <p:sp>
          <p:nvSpPr>
            <p:cNvPr id="181" name=""/>
            <p:cNvSpPr/>
            <p:nvPr/>
          </p:nvSpPr>
          <p:spPr>
            <a:xfrm flipV="1">
              <a:off x="6053040" y="4545000"/>
              <a:ext cx="1378080" cy="419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385040" y="3992400"/>
              <a:ext cx="147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ff"/>
                  </a:solidFill>
                  <a:latin typeface="Comic Sans MS"/>
                </a:rPr>
                <a:t>Write as a power of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2714760" y="2757600"/>
            <a:ext cx="6211800" cy="100872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There is a formula linking a Mersenne Prime to its corresponding perfect number by multiplication. Use the table below to help you find i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6e6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828800" y="177840"/>
            <a:ext cx="5932440" cy="45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ersenne Primes and Perfect Numb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2"/>
          <a:stretch/>
        </p:blipFill>
        <p:spPr>
          <a:xfrm>
            <a:off x="490680" y="2293920"/>
            <a:ext cx="2028600" cy="2459160"/>
          </a:xfrm>
          <a:prstGeom prst="rect">
            <a:avLst/>
          </a:prstGeom>
          <a:ln w="76320">
            <a:solidFill>
              <a:srgbClr val="3333ff"/>
            </a:solidFill>
            <a:miter/>
          </a:ln>
        </p:spPr>
      </p:pic>
      <p:sp>
        <p:nvSpPr>
          <p:cNvPr id="186" name=""/>
          <p:cNvSpPr/>
          <p:nvPr/>
        </p:nvSpPr>
        <p:spPr>
          <a:xfrm>
            <a:off x="216000" y="1625760"/>
            <a:ext cx="1257120" cy="3988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36640" y="1625760"/>
            <a:ext cx="1257480" cy="3988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28840" y="1638360"/>
            <a:ext cx="1371600" cy="70380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5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3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84760" y="1625760"/>
            <a:ext cx="1701720" cy="39888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= </a:t>
            </a:r>
            <a:r>
              <a:rPr b="0" lang="en-GB" sz="2000" spc="-1" strike="noStrike">
                <a:solidFill>
                  <a:srgbClr val="ff0000"/>
                </a:solidFill>
                <a:latin typeface="Comic Sans MS"/>
              </a:rPr>
              <a:t>12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22440" y="4902120"/>
            <a:ext cx="1803240" cy="398880"/>
          </a:xfrm>
          <a:prstGeom prst="rect">
            <a:avLst/>
          </a:prstGeom>
          <a:solidFill>
            <a:srgbClr val="ffffff"/>
          </a:solid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1588 - 164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595920" y="1606680"/>
            <a:ext cx="1005120" cy="3988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3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813800" y="1606680"/>
            <a:ext cx="1004760" cy="39888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689200" y="2257560"/>
            <a:ext cx="917640" cy="3988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2255760"/>
            <a:ext cx="903240" cy="3988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3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910640" y="2254320"/>
            <a:ext cx="1004760" cy="3988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2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825480"/>
            <a:ext cx="7291440" cy="70380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Mersenne Prime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ny number of the form 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3333ff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3333ff"/>
                </a:solidFill>
                <a:latin typeface="Comic Sans MS"/>
              </a:rPr>
              <a:t> – 1.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were n is prime and produces a prime number.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57760" y="2236680"/>
            <a:ext cx="961920" cy="3988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6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786280" y="2249640"/>
            <a:ext cx="946440" cy="39888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89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815160" y="2247840"/>
            <a:ext cx="1033560" cy="39888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GB" sz="2000" spc="-1" strike="noStrike" baseline="30000">
                <a:solidFill>
                  <a:srgbClr val="ff0000"/>
                </a:solidFill>
                <a:latin typeface="Comic Sans MS"/>
              </a:rPr>
              <a:t>107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2787480" y="3965400"/>
          <a:ext cx="6094440" cy="2594160"/>
        </p:xfrm>
        <a:graphic>
          <a:graphicData uri="http://schemas.openxmlformats.org/drawingml/2006/table">
            <a:tbl>
              <a:tblPr/>
              <a:tblGrid>
                <a:gridCol w="1049400"/>
                <a:gridCol w="1052640"/>
                <a:gridCol w="582480"/>
                <a:gridCol w="808200"/>
                <a:gridCol w="1155600"/>
                <a:gridCol w="1446120"/>
              </a:tblGrid>
              <a:tr h="1008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000000"/>
                          </a:solidFill>
                          <a:latin typeface="Comic Sans MS"/>
                        </a:rPr>
                        <a:t>n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-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erfect Numb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3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1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49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ff0000"/>
                          </a:solidFill>
                          <a:latin typeface="Comic Sans MS"/>
                        </a:rPr>
                        <a:t>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12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3333ff"/>
                          </a:solidFill>
                          <a:latin typeface="Comic Sans MS"/>
                        </a:rPr>
                        <a:t>6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8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2</a:t>
                      </a:r>
                      <a:r>
                        <a:rPr b="0" lang="en-GB" sz="2000" spc="-1" strike="noStrike" baseline="30000">
                          <a:solidFill>
                            <a:srgbClr val="ff0000"/>
                          </a:solidFill>
                          <a:latin typeface="Comic Sans MS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201" name=""/>
          <p:cNvGrpSpPr/>
          <p:nvPr/>
        </p:nvGrpSpPr>
        <p:grpSpPr>
          <a:xfrm>
            <a:off x="6053040" y="3992400"/>
            <a:ext cx="2811600" cy="971640"/>
            <a:chOff x="6053040" y="3992400"/>
            <a:chExt cx="2811600" cy="971640"/>
          </a:xfrm>
        </p:grpSpPr>
        <p:sp>
          <p:nvSpPr>
            <p:cNvPr id="202" name=""/>
            <p:cNvSpPr/>
            <p:nvPr/>
          </p:nvSpPr>
          <p:spPr>
            <a:xfrm flipV="1">
              <a:off x="6053040" y="4545000"/>
              <a:ext cx="1378080" cy="41904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385040" y="3992400"/>
              <a:ext cx="1479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3333ff"/>
                  </a:solidFill>
                  <a:latin typeface="Comic Sans MS"/>
                </a:rPr>
                <a:t>Write as a power of 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2712960" y="2901960"/>
            <a:ext cx="6211800" cy="70380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If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-1 is a Mersenne prime then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– 1 x 2</a:t>
            </a:r>
            <a:r>
              <a:rPr b="0" lang="en-GB" sz="2000" spc="-1" strike="noStrike" baseline="30000">
                <a:solidFill>
                  <a:srgbClr val="000000"/>
                </a:solidFill>
                <a:latin typeface="Comic Sans MS"/>
              </a:rPr>
              <a:t>n-1</a:t>
            </a:r>
            <a:r>
              <a:rPr b="0" lang="en-GB" sz="2000" spc="-1" strike="noStrike">
                <a:solidFill>
                  <a:srgbClr val="000000"/>
                </a:solidFill>
                <a:latin typeface="Comic Sans MS"/>
              </a:rPr>
              <a:t> is a perfect number. Check this for the first few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9T15:58:52Z</dcterms:created>
  <dc:creator>MIKE CROWLEY</dc:creator>
  <dc:description/>
  <dc:language>en-US</dc:language>
  <cp:lastModifiedBy>stafflrl</cp:lastModifiedBy>
  <dcterms:modified xsi:type="dcterms:W3CDTF">2007-06-13T15:20:03Z</dcterms:modified>
  <cp:revision>39</cp:revision>
  <dc:subject/>
  <dc:title>Perfect Numbers and Mersenne Primes</dc:title>
</cp:coreProperties>
</file>